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564D-B2C5-4F23-BAFA-8AD47E317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B890-9476-498C-B5F4-007DD10CD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24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3942360"/>
            <a:ext cx="7724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856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2160" y="119664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3960" y="119664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394236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2160" y="394236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3960" y="394236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99640" y="115560"/>
            <a:ext cx="770436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856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3942360"/>
            <a:ext cx="7724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0"/>
          <p:cNvSpPr/>
          <p:nvPr/>
        </p:nvSpPr>
        <p:spPr>
          <a:xfrm rot="5400000">
            <a:off x="4320" y="335412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2"/>
          <p:cNvSpPr/>
          <p:nvPr/>
        </p:nvSpPr>
        <p:spPr>
          <a:xfrm>
            <a:off x="755640" y="907920"/>
            <a:ext cx="8209080" cy="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 rot="5400000">
            <a:off x="4320" y="335412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1"/>
          <p:cNvSpPr/>
          <p:nvPr/>
        </p:nvSpPr>
        <p:spPr>
          <a:xfrm>
            <a:off x="755640" y="907920"/>
            <a:ext cx="8209080" cy="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Evidence-based%20Decision%20Making%20Framework.ppt" TargetMode="External"/><Relationship Id="rId2" Type="http://schemas.openxmlformats.org/officeDocument/2006/relationships/hyperlink" Target="file:///Institutional%20Framework.ppt" TargetMode="External"/><Relationship Id="rId3" Type="http://schemas.openxmlformats.org/officeDocument/2006/relationships/hyperlink" Target="file:///Operational%20Framework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1"/>
          <p:cNvGrpSpPr/>
          <p:nvPr/>
        </p:nvGrpSpPr>
        <p:grpSpPr>
          <a:xfrm>
            <a:off x="1571760" y="5929200"/>
            <a:ext cx="6433560" cy="620640"/>
            <a:chOff x="1571760" y="5929200"/>
            <a:chExt cx="6433560" cy="620640"/>
          </a:xfrm>
        </p:grpSpPr>
        <p:pic>
          <p:nvPicPr>
            <p:cNvPr id="50" name="Picture 19" descr=""/>
            <p:cNvPicPr/>
            <p:nvPr/>
          </p:nvPicPr>
          <p:blipFill>
            <a:blip r:embed="rId1"/>
            <a:stretch/>
          </p:blipFill>
          <p:spPr>
            <a:xfrm>
              <a:off x="2220840" y="5972040"/>
              <a:ext cx="57844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"/>
            <p:cNvPicPr/>
            <p:nvPr/>
          </p:nvPicPr>
          <p:blipFill>
            <a:blip r:embed="rId2"/>
            <a:stretch/>
          </p:blipFill>
          <p:spPr>
            <a:xfrm>
              <a:off x="1571760" y="5929200"/>
              <a:ext cx="504720" cy="50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22" descr="flag"/>
          <p:cNvPicPr/>
          <p:nvPr/>
        </p:nvPicPr>
        <p:blipFill>
          <a:blip r:embed="rId3"/>
          <a:stretch/>
        </p:blipFill>
        <p:spPr>
          <a:xfrm>
            <a:off x="179280" y="260280"/>
            <a:ext cx="165744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85560" y="13568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fumo wa Uchambuzi wa Uhakika wa Chakula na Lish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MUCHALI), Tanza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285920" y="3500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Tanzania Food Security and Nutrition Analysis Syst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000080" y="4500720"/>
            <a:ext cx="79246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 the Food Security Information Network (FSIN) Consultative Confere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Park Hotel, Nairobi, KENYA: 8-9 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Vedasto Rutachokozibwa, FAO/Tanz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2DBA-DFB1-44A9-98FB-9D414AE99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0582-6384-45A2-9B8F-FE7F1DBE2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11280" y="2492280"/>
            <a:ext cx="820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CHALI CONCEPTUAL FRAMEWORK: 3 PILL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8209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CHALI, Tanzania Pi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9BAF-450A-4E4A-8EEB-74C081EA3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16000" y="15843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vidence-based Decision Making Framework.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49480" y="3716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stitutional Framework.pp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30400" y="54007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erational Framework.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9320" y="1197000"/>
            <a:ext cx="8140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llar 1: To influence decision making of FSN throug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87480" y="3406680"/>
            <a:ext cx="7381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llar 2: Multi-institutional collaboration throug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042920" y="5041800"/>
            <a:ext cx="7383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llar 3: Multi-sectoral collaboration throug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A392-7604-45A1-8DA1-6ED434090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11280" y="2492280"/>
            <a:ext cx="820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MPLEMENTATION OF MUCHALI, TANZA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8D52-7AD9-4CB2-9AF8-6B3700CDC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914400" y="1197000"/>
            <a:ext cx="74296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ment of 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14400" y="2286000"/>
            <a:ext cx="8015400" cy="17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tional MUCHALI Secretariat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ncils’ MUCHLI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CHALI Tanzania Secretariat/ Te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rcRect l="0" t="2468" r="43184" b="0"/>
          <a:stretch/>
        </p:blipFill>
        <p:spPr>
          <a:xfrm>
            <a:off x="1357200" y="1000080"/>
            <a:ext cx="692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AC9E-00AD-4D73-B74D-85FD8708D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uncil MUCHALI Team: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42920" y="981000"/>
          <a:ext cx="7315200" cy="5648400"/>
        </p:xfrm>
        <a:graphic>
          <a:graphicData uri="http://schemas.openxmlformats.org/drawingml/2006/table">
            <a:tbl>
              <a:tblPr/>
              <a:tblGrid>
                <a:gridCol w="425520"/>
                <a:gridCol w="5184720"/>
                <a:gridCol w="1704960"/>
              </a:tblGrid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Planning Officer (DPL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Agriculture and Livestock Development Officer (DAL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Crop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Livestock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Nutrition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Extension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Health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Community Development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Cooperative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Trade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Fisheries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Resources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Agricultural Statistical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Environmental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Irrigation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e of NGOs working in the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e of Farmers Groups/Associ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e of Agro-Deal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D8A1-29F1-4232-94F7-FD21E5B41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C0C2-53E0-443E-AB06-7590C40D0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79280" y="1052640"/>
            <a:ext cx="88153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ownership of MUCH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CHALI is endorsed by the Government, Development Partners and the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ocacy/ sensitization of national high level decision makers for MUCHALI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mandate: Prime Minister’s Office (PM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cal FSN mandate: Ministry of Agriculture (MAF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of FSN professionals at national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term training on LFSNA and IPC (around 20-30 multi-sectoral professionals (national, regional – East Africa and SA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5AAF-3BE5-47B6-84F2-4A52B0B36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79280" y="1052640"/>
            <a:ext cx="88153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MUCHALI to L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loted in Mtwara and Lindi Regions under UNDAF (2007-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on LFSNA and IPC for council teams (50 professionals from 12 LGAs in Mtwara and Lindi Regio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sion of FSN data management support (desktop computers to 12 L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ocacy/ sensitization of LGAs high level decision makers for MUCHALI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national FSN assessment, analysis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e one integrated FSN situation report for th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intervention recommendations to TANDR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9592-FAA4-4847-AEC4-9F2444E42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539640" y="1052640"/>
            <a:ext cx="845496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GAs in Lindi and Mtwara Regions are able to conduct own FSN assessment, analysis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e one integrated FSN situation report for the L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intervention recommendations to LGA Council (highest decision making bo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ALI capacity building activities incorporated i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1-2015 UNDAP Programme for Tanzania (US$ 160,000 per year p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GAs annual plans and budgets (ASDP/DAD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862F-285E-49AD-8F82-EB65241C0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11280" y="2492280"/>
            <a:ext cx="820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ALLENGES/ LESSONS LE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8534-8005-4BFE-8A8C-7089FBB2D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23760" y="1123920"/>
            <a:ext cx="754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MUCH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ALI Conceptu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/ Lessons lea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allenges on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F58E-AEA8-4ABF-ABAC-6E7013218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042920" y="981000"/>
            <a:ext cx="770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57160" y="1928880"/>
            <a:ext cx="813744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nfluence (bias) – politics and decision-making on food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quick results vs rigorous evidence-bas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allenges on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8462-DE2E-4B48-BF18-093E0F3A9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84280" y="1989000"/>
            <a:ext cx="817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for balancing individual institutional mandates and those of MUCHALI are not fully e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.g. critical staffing for FSN activitie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fficient but may not be available whe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zation of sufficient resources for MUCHALI operations (mainly financial and physical) - still un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042920" y="981000"/>
            <a:ext cx="770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52D3-1940-4462-A0F5-CB93A4FFC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042920" y="981000"/>
            <a:ext cx="770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28800" y="1714680"/>
            <a:ext cx="82152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 data management processes (e.g. collection, storage, access… at national and sub-national lev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database for livelihood systems to support rigorous data capturing for LF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ilor of tools and generated reports to audience at various levels not fully achieved (e.g. translations into Swahili, briefs, websit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ties to access data and information in the country are 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allenges on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0258-6152-424F-9076-E3452482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11280" y="2492280"/>
            <a:ext cx="82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xt Steps for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94B1-FE47-4829-98A3-D38EB4596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85880" y="1214280"/>
            <a:ext cx="813744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 advoc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wareness/ sensitization for high level decision makers – national and LGA, private sector and the public to commit resources for support of MUCHALI  programmes an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protocols/ agreements on the terms of engagement and commitment for MUCHALI programmes and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line MUCHALI work plans to conform to relevant stakeholders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 guidelines for collect, process, analyze, interpret, write reports and disseminate LFS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00000" y="1071720"/>
            <a:ext cx="82440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velop and consolidate database for livelihood systems to support rigorous data capturing for LFSN and use of IPC protocols to strengthen MUCH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e database on key LFSN at all levels – link through national data systems such as “CountryStat Program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ing tools and processes for 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capacit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capacity of FSN professionals at all levels for MUCHALI data management, analysis and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going activities under the UNDAP, SADC, I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 MUCHALI TO Produce and disseminate tailor-made FSN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0">
              <a:spcBef>
                <a:spcPts val="249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1A97-2904-4FDC-924E-D1B3390FD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xt Steps for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ill, national, regional and international support is critically needed to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walk the talk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C721-200D-4A36-998C-14E2A8812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ant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rc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9328-26BC-4993-873F-528EA3860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2" descr="flag"/>
          <p:cNvPicPr/>
          <p:nvPr/>
        </p:nvPicPr>
        <p:blipFill>
          <a:blip r:embed="rId1"/>
          <a:stretch/>
        </p:blipFill>
        <p:spPr>
          <a:xfrm>
            <a:off x="179280" y="260280"/>
            <a:ext cx="1657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EB44-DC83-48A8-AC12-33B932788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617920" y="2924280"/>
            <a:ext cx="3935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84360" y="2678040"/>
            <a:ext cx="8294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Is a system's framework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nalysi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lihoods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d security and nutrition data/ information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84360" y="1197000"/>
            <a:ext cx="8140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Is a multi-institutional, multi-secto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for food security and nutrition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0FDD-FF32-4698-9065-785A53B5D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07960" y="4437000"/>
            <a:ext cx="82962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MUCHALI has adopted the IPC( Integrated Food Security Phase Classification) for analysis and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3EBE-DD99-4C46-A66E-1A7781F63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617920" y="2924280"/>
            <a:ext cx="3935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BC0B-D46A-4060-9B22-1805BFC9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00080" y="1214280"/>
            <a:ext cx="7929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or1999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 institutions and agencies conducted independent assessments and produced uncoordinated FSN reports and recommendations for interven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143000" y="3071880"/>
            <a:ext cx="77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0-2009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Food Security Information Team (FSIT) was established to coordinate food security assessments, analyses and repor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43000" y="4786200"/>
            <a:ext cx="7786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t FS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ed challeng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E489-29CC-4D00-89D7-C8725B230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928800" y="1000080"/>
            <a:ext cx="5929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hallenges of F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28800" y="1714680"/>
            <a:ext cx="7758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emphasis on food availability: less or no consideration of livelihoods and other food security pillars (e.g. access to food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nalytical linkages between food security and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capacity at the LGAs level for food security and nutri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explicit linkages between food and nutrition security analysis and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42920" y="542916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llenges prompting consultations inclu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review of information systems in Tanzania (2008-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FF40-E60C-41BC-B675-2F56E9A9B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928800" y="1000080"/>
            <a:ext cx="8215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nclusions and recommendations from consul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928800" y="2143080"/>
            <a:ext cx="75438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from existing system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information from multiple sectors: nutrition, markets, agriculture, livestock, fisheries, climate,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integrated database systems for data collection, storage, accessing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ter-agency analytical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linkages between council (district) and national leve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alytical capacity at LGA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2B4A-555D-469B-8020-66CBC17DA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949320" y="1268280"/>
            <a:ext cx="808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put from consultations evolved into the development of MUCHALI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95280" y="3573360"/>
            <a:ext cx="8288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ported by FAO through the “One UN”  UNDAF Programme for Tanzania (2007-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81120" y="5283360"/>
            <a:ext cx="8002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ed by Nick Haan and Vedasto Rutachokozibwa with technical backstopping of Mark Smul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5:24:59Z</dcterms:created>
  <dc:creator>mclean</dc:creator>
  <dc:description/>
  <dc:language>en-US</dc:language>
  <cp:lastModifiedBy>RUTACHOKOZIBWA</cp:lastModifiedBy>
  <dcterms:modified xsi:type="dcterms:W3CDTF">2011-09-08T20:02:01Z</dcterms:modified>
  <cp:revision>347</cp:revision>
  <dc:subject/>
  <dc:title>Slide 1</dc:title>
</cp:coreProperties>
</file>